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5624640" y="0"/>
            <a:ext cx="43020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3251160" y="528120"/>
            <a:ext cx="3424320" cy="256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3"/>
          </p:nvPr>
        </p:nvSpPr>
        <p:spPr>
          <a:xfrm>
            <a:off x="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4"/>
          </p:nvPr>
        </p:nvSpPr>
        <p:spPr>
          <a:xfrm>
            <a:off x="5624640" y="6419520"/>
            <a:ext cx="4302000" cy="37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B36B1-2425-429A-947A-1BA353BF6EF6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4F70E-7E52-4709-9312-4867696B579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A575A-F8E9-458D-BF05-C449574F6D4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7442-F9EF-4348-B8BD-69AA5357DB5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A9697-A109-4B6B-9981-089D9FF3D2E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A60BC-0CC6-40AE-9601-FCD2CE541F6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1FDF5-C1BE-4708-8FDA-4155A1E327F5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72CF2-317E-4B5B-86B9-FD48B394C60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F8541-4CCA-48DF-8D20-C15E59F2141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3A0B7-D0B1-4C60-8A6B-CFD4A186A3B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E3CBC-410F-4C74-856F-DFF23205B6C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7289E-0374-4C23-A47E-0CD612EBC19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2421A-8A9A-4064-B42D-6733F43D97EE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0F4C-372F-44EB-97F9-6B0B8C9307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7C9C4-AD5F-45F8-8307-43E8FE83035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EE9D-863C-4326-B697-B5A8018E500D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C6E2B-1489-41B8-AD8D-2D5C0A3347F3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D9D11-1FFC-481E-BCA2-08AFA9EABE04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E92-3FE9-463B-AEE5-B7FB9D75B6B9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5624640" y="6419880"/>
            <a:ext cx="430200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8BAC4-6D6F-473D-8F3B-1D40E977655B}" type="slidenum">
              <a:rPr b="0" lang="it-I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3251160" y="528480"/>
            <a:ext cx="3424320" cy="25686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1324080" y="3247920"/>
            <a:ext cx="7278480" cy="302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236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900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4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236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7120"/>
            <a:ext cx="250236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7040" y="413712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7040" y="1989000"/>
            <a:ext cx="37926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4360" y="4137120"/>
            <a:ext cx="7772400" cy="196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4360" y="1989000"/>
            <a:ext cx="7772400" cy="411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99"/>
                </a:solidFill>
                <a:latin typeface="Times New Roman"/>
              </a:rPr>
              <a:t>Claudio Vital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Rectangle 12"/>
          <p:cNvSpPr/>
          <p:nvPr/>
        </p:nvSpPr>
        <p:spPr>
          <a:xfrm>
            <a:off x="7093080" y="6400800"/>
            <a:ext cx="2050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4"/>
          <p:cNvSpPr/>
          <p:nvPr/>
        </p:nvSpPr>
        <p:spPr>
          <a:xfrm>
            <a:off x="1116000" y="189000"/>
            <a:ext cx="5869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18"/>
          <p:cNvSpPr/>
          <p:nvPr/>
        </p:nvSpPr>
        <p:spPr>
          <a:xfrm>
            <a:off x="8001000" y="228600"/>
            <a:ext cx="8920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Slide </a:t>
            </a:r>
            <a:fld id="{3A282C89-2286-4526-AA0A-C3092614F2E0}" type="slidenum"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&lt;number&gt;</a:t>
            </a:fld>
            <a:r>
              <a:rPr b="0" lang="it-IT" sz="1000" spc="-1" strike="noStrike">
                <a:solidFill>
                  <a:srgbClr val="000099"/>
                </a:solidFill>
                <a:latin typeface="Times New Roman"/>
              </a:rPr>
              <a:t>/1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3840" cy="460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La costruzione delle reti:</a:t>
            </a:r>
            <a:br>
              <a:rPr sz="4000"/>
            </a:b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it-IT" sz="4000" spc="-1" strike="noStrike">
                <a:solidFill>
                  <a:srgbClr val="000099"/>
                </a:solidFill>
                <a:latin typeface="Times New Roman"/>
              </a:rPr>
              <a:t>il concetto di partenariato e le implicazioni operative</a:t>
            </a:r>
            <a:r>
              <a:rPr b="1" lang="it-IT" sz="4000" spc="-1" strike="noStrike">
                <a:solidFill>
                  <a:srgbClr val="ff0066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50560" y="764640"/>
            <a:ext cx="856908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2349000"/>
            <a:ext cx="7988400" cy="375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deve avere una composizione articolata, che comprenda soggetti rappresentativi di diversi contesti istituzionali e portatori di interessi diversifica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91856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Alcuni aspetti important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23640" y="1341000"/>
            <a:ext cx="856908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gli obiettivi  generali del proget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attese rispetto al lavoro di ciascun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motivi che hanno indotto ciascun partner a partecipare all’iniziativ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obiettivi che i partner intendono raggiungere e i risultati da loro auspic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gli strumenti e le competenze che i partner possiedono per raggiungere gli obiettiv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problematiche legate all’adesione dei singol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Il fattore cultura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Un ulteriore elemento da non sottovalutare sono gli aspetti culturali e caratteriali del partner, che se non ponderati rischiano di mettere in crisi un partenariato. A ciò di aggiunga la condivisione di una comune lingua di lavo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Segnaposto data 4"/>
          <p:cNvSpPr/>
          <p:nvPr/>
        </p:nvSpPr>
        <p:spPr>
          <a:xfrm>
            <a:off x="1403280" y="6237360"/>
            <a:ext cx="630072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ades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360" y="1989000"/>
            <a:ext cx="331128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Aderire ad un gruppo già costitui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lvl="1" marL="177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99"/>
                </a:solidFill>
                <a:latin typeface="Times New Roman"/>
              </a:rPr>
              <a:t>È una scelta che nasce dal desiderio di aderire ad una iniziativa considerata interessante quando non si possiede un’esperienza sufficiente per porsi alla guida di una partnership o quando non si possiede il tempo sufficiente per intessere le relazioni necessarie alla costituzione di un proprio partenari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Modalità: cre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23640" y="1989000"/>
            <a:ext cx="316836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Creare un   nuovo gruppo    di partn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995640" y="1989000"/>
            <a:ext cx="4461120" cy="41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È</a:t>
            </a: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 una scelta che nasce dal desiderio di realizzare un’iniziativa innovativa in cui si crede in modo particolare, presuppone una certa esperienza pregressa e richiede un grosso impegno nella fase di progettazione e </a:t>
            </a:r>
            <a:r>
              <a:rPr b="0" i="1" lang="it-IT" sz="2800" spc="-1" strike="noStrike">
                <a:solidFill>
                  <a:srgbClr val="000099"/>
                </a:solidFill>
                <a:latin typeface="Times New Roman"/>
              </a:rPr>
              <a:t>team building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Struttura del partenariato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11280" y="2491920"/>
            <a:ext cx="482472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ste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 nod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Rete ad ho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12800" indent="-533520">
              <a:spcBef>
                <a:spcPts val="901"/>
              </a:spcBef>
              <a:buClr>
                <a:srgbClr val="000099"/>
              </a:buClr>
              <a:buFont typeface="Times New Roman"/>
              <a:buAutoNum type="arabicPeriod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99"/>
                </a:solidFill>
                <a:latin typeface="Times New Roman"/>
              </a:rPr>
              <a:t>Interrete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000" spc="-1" strike="noStrike">
                <a:solidFill>
                  <a:srgbClr val="000099"/>
                </a:solidFill>
                <a:latin typeface="Times New Roman"/>
              </a:rPr>
              <a:t>1. Rete a stella </a:t>
            </a:r>
            <a:br>
              <a:rPr sz="18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4360" y="2565000"/>
            <a:ext cx="7772400" cy="35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rete di nuova costituzion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partner leader con una maggiore esperienza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passano per il leader che stabilisce le procedure operative, organizza la banca dati centralizzata, assegna i compiti ai singoli partner, risolve eventuali conflitti, e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2. Rete a nodi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rocesso di socializzazione tra partner è  piuttosto avanza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 partner hanno un ruolo paritario, uguale esperienza e medesime caratterist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presenza di un leader rappresentativ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municazione circola in modo informa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3. Rete ad hoc 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4360" y="2923920"/>
            <a:ext cx="7772400" cy="28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rete è già matura ed i partner vantano rapporti consolid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non si evidenzia una leadersh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e comunicazioni fra partner sono diret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836280"/>
            <a:ext cx="79185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4. Interrete </a:t>
            </a:r>
            <a:br>
              <a:rPr sz="4400"/>
            </a:b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24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modello di rete comples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cooperazione intensiva fra diversi partn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upporto di una struttura di coordinamento, punto di riferimento che garantisce la fluidità del flusso di informazioni fra i vari part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36400" indent="-357120">
              <a:spcBef>
                <a:spcPts val="700"/>
              </a:spcBef>
              <a:buClr>
                <a:srgbClr val="000099"/>
              </a:buClr>
              <a:buFont typeface="Wingdings" charset="2"/>
              <a:buChar char=""/>
              <a:tabLst>
                <a:tab algn="l" pos="174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ogni partner è responsabile della propria r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506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Perché fare rete?</a:t>
            </a:r>
            <a:r>
              <a:rPr b="1" lang="it-IT" sz="4400" spc="-1" strike="noStrike">
                <a:solidFill>
                  <a:srgbClr val="000099"/>
                </a:solidFill>
                <a:latin typeface="Comic Sans MS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Promuovere la cooperazioni fra organizzazioni che lavorano sugli stessi problemi ma che sono diverse per tipologia, rilevanza, esperienza e nazionalità consente di ottenere risultati con un valore aggiunto maggi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si intende per…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Una rete di partner la cui specificità risiede nelle connessioni tra i vari nodi e non nei nodi stess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Il partenariato non si qualifica per i suoi componenti ma per le connessioni che tra questi si possono cre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91856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Obiettivo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2565360"/>
            <a:ext cx="7772400" cy="25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Realizzare il progetto non attraverso un semplice trasferimento o scambio di informazioni, ma realizzando in comune prodotti o process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  <a:ea typeface="Times New Roman"/>
              </a:rPr>
              <a:t>Risultati della ret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Si caratterizzano p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a condivisione del lavoro tra realtà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eterogeneità dei gruppi operativi che li hanno realizza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99"/>
                </a:solidFill>
                <a:latin typeface="Times New Roman"/>
              </a:rPr>
              <a:t>L’ampio riconoscimento dei criteri di utilità ed efficacia utilizzati per la realizz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sa implic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Il partenariato transnazionale comporta un accordo tra soggetti diversi appartenenti ad aree geografiche differenti, finalizzato a raggiungere obiettivi di interesse comu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91856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ome si costituis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4360" y="2276280"/>
            <a:ext cx="77724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99"/>
                </a:solidFill>
                <a:latin typeface="Times New Roman"/>
              </a:rPr>
              <a:t>Ogni partner porta con sé e mette a disposizione dell’iniziativa le proprie risorse, le competenze e le esperien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Caratteristiche del partenariato </a:t>
            </a:r>
            <a:br>
              <a:rPr sz="4400"/>
            </a:br>
            <a:r>
              <a:rPr b="1" lang="it-IT" sz="4400" spc="-1" strike="noStrike">
                <a:solidFill>
                  <a:srgbClr val="000099"/>
                </a:solidFill>
                <a:latin typeface="Times New Roman"/>
              </a:rPr>
              <a:t>nei Programmi comunitar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123640" y="3284280"/>
            <a:ext cx="5256360" cy="281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11360" indent="-532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99"/>
                </a:solidFill>
                <a:latin typeface="Times New Roman"/>
              </a:rPr>
              <a:t>Transnazionalit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-532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99"/>
                </a:solidFill>
                <a:latin typeface="Times New Roman"/>
              </a:rPr>
              <a:t>Multiattorialit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50560" y="836640"/>
            <a:ext cx="856908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800" spc="-1" strike="noStrike">
                <a:solidFill>
                  <a:srgbClr val="000099"/>
                </a:solidFill>
                <a:latin typeface="Times New Roman"/>
              </a:rPr>
              <a:t>Transnazionalità 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4360" y="2421000"/>
            <a:ext cx="777528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000099"/>
                </a:solidFill>
                <a:latin typeface="Times New Roman"/>
              </a:rPr>
              <a:t>Il partenariato riunisce persone e/o organismi provenienti da realtà geografiche different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8T09:09:52Z</dcterms:created>
  <dc:creator>Trani</dc:creator>
  <dc:description/>
  <dc:language>en-US</dc:language>
  <cp:lastModifiedBy>vitali</cp:lastModifiedBy>
  <dcterms:modified xsi:type="dcterms:W3CDTF">2008-09-01T07:01:03Z</dcterms:modified>
  <cp:revision>131</cp:revision>
  <dc:subject/>
  <dc:title>Struttura Piano di monitoraggio</dc:title>
</cp:coreProperties>
</file>